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1E69-982F-46FE-831F-E1617E3C7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B440-A18B-4482-B66B-E524CC59E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BD38-0BFE-4AC4-80F8-B77BCF4C7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5023-98FE-4148-B9DD-E60FE2790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AA43-F5FD-4528-B758-5389ED059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C7E4-D5D7-4693-8A29-89F1B8431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7834-CE71-4903-9282-78C183BE7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1306-C536-44D0-A2C3-1580E5300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A51B-8298-47E1-8D59-A166ADA2A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525B-F8C3-418F-84EC-BA1B20F9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7AF-ADB7-4883-9784-52EE87236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5FFD-8C5F-48E3-AD62-AAF81DB77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E664-8B2F-4D09-9E31-496D50475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448D-1A5F-4A17-8B86-A6B44823A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836B-4D56-4828-99B6-39A221CA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B5FF-59EA-4B06-B98B-2A4EFBFDC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rbanization After 1865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5" descr="3094749_edit"/>
          <p:cNvPicPr/>
          <p:nvPr/>
        </p:nvPicPr>
        <p:blipFill>
          <a:blip r:embed="rId1"/>
          <a:stretch/>
        </p:blipFill>
        <p:spPr>
          <a:xfrm>
            <a:off x="2666880" y="2209680"/>
            <a:ext cx="4038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 flipH="1" rot="10792800">
            <a:off x="1056960" y="1135800"/>
            <a:ext cx="6934320" cy="1979640"/>
          </a:xfrm>
          <a:prstGeom prst="upArrowCallout">
            <a:avLst>
              <a:gd name="adj1" fmla="val 43562"/>
              <a:gd name="adj2" fmla="val 37039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9"/>
          <p:cNvSpPr/>
          <p:nvPr/>
        </p:nvSpPr>
        <p:spPr>
          <a:xfrm>
            <a:off x="1143000" y="12142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fe was hard in the city, but most people preferred it to the count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0"/>
          <p:cNvSpPr/>
          <p:nvPr/>
        </p:nvSpPr>
        <p:spPr>
          <a:xfrm>
            <a:off x="838080" y="3505320"/>
            <a:ext cx="746784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ker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ildren coul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ttend city schoo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urches, theaters, social clubs, and museums offer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ompanionship and entertai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st city workers were able to enjoy a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higher standard of living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some moved into the grow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iddle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36"/>
          <p:cNvSpPr/>
          <p:nvPr/>
        </p:nvSpPr>
        <p:spPr>
          <a:xfrm>
            <a:off x="1066680" y="2362320"/>
            <a:ext cx="6934320" cy="388620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e1e1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6"/>
          <p:cNvSpPr/>
          <p:nvPr/>
        </p:nvSpPr>
        <p:spPr>
          <a:xfrm>
            <a:off x="1066680" y="1143000"/>
            <a:ext cx="723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 cities swelled in size, American innovators developed new technologi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 improve living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7480" y="2362320"/>
          <a:ext cx="6553080" cy="3854160"/>
        </p:xfrm>
        <a:graphic>
          <a:graphicData uri="http://schemas.openxmlformats.org/drawingml/2006/table">
            <a:tbl>
              <a:tblPr/>
              <a:tblGrid>
                <a:gridCol w="2209680"/>
                <a:gridCol w="4343400"/>
              </a:tblGrid>
              <a:tr h="51840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Technolo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Descri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4025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kyscrap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eel-frame buildings ten stories or taller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uilt because there was limited room left on the groun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fety elev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vators that would not fall even if the lifting rope brok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heating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s made to carry heat to all parts of a build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 flipH="1" rot="10792800">
            <a:off x="1053000" y="1294560"/>
            <a:ext cx="6934320" cy="1598760"/>
          </a:xfrm>
          <a:prstGeom prst="upArrowCallout">
            <a:avLst>
              <a:gd name="adj1" fmla="val 53940"/>
              <a:gd name="adj2" fmla="val 45863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9"/>
          <p:cNvSpPr/>
          <p:nvPr/>
        </p:nvSpPr>
        <p:spPr>
          <a:xfrm>
            <a:off x="1143000" y="14493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ss transi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reshaped the natio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 c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0"/>
          <p:cNvSpPr/>
          <p:nvPr/>
        </p:nvSpPr>
        <p:spPr>
          <a:xfrm>
            <a:off x="1066680" y="3276720"/>
            <a:ext cx="739152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88, Richmond, Virginia started us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treetcars powered by overhead electric 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in a decade, every other major city foll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ctric streetcars wer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quieter, cleaner, and more effici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n coal-driven commuter trains or horse-drawn trolle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1"/>
          <p:cNvSpPr/>
          <p:nvPr/>
        </p:nvSpPr>
        <p:spPr>
          <a:xfrm>
            <a:off x="5334120" y="129528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raffic conges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kept streetcars from running on sched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9"/>
          <p:cNvSpPr/>
          <p:nvPr/>
        </p:nvSpPr>
        <p:spPr>
          <a:xfrm>
            <a:off x="5334120" y="2895480"/>
            <a:ext cx="34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97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ost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ved this problem by building the nati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first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subway system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New York Cit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llowed suit in 19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0"/>
          <p:cNvSpPr/>
          <p:nvPr/>
        </p:nvSpPr>
        <p:spPr>
          <a:xfrm>
            <a:off x="800280" y="5334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ss transit made it possible for middle- and upper-class people to move to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uburb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96740385_edit"/>
          <p:cNvPicPr/>
          <p:nvPr/>
        </p:nvPicPr>
        <p:blipFill>
          <a:blip r:embed="rId1"/>
          <a:stretch/>
        </p:blipFill>
        <p:spPr>
          <a:xfrm>
            <a:off x="838080" y="1432080"/>
            <a:ext cx="4267440" cy="29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29"/>
          <p:cNvSpPr/>
          <p:nvPr/>
        </p:nvSpPr>
        <p:spPr>
          <a:xfrm>
            <a:off x="990720" y="121932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 cities grew, planners designated different parts of cities for different function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609120" y="2590560"/>
            <a:ext cx="4724280" cy="3352680"/>
            <a:chOff x="609120" y="2590560"/>
            <a:chExt cx="4724280" cy="3352680"/>
          </a:xfrm>
        </p:grpSpPr>
        <p:sp>
          <p:nvSpPr>
            <p:cNvPr id="101" name="AutoShape 4"/>
            <p:cNvSpPr/>
            <p:nvPr/>
          </p:nvSpPr>
          <p:spPr>
            <a:xfrm flipH="1" rot="5400000">
              <a:off x="1294200" y="1904400"/>
              <a:ext cx="3352680" cy="4724280"/>
            </a:xfrm>
            <a:prstGeom prst="upArrowCallout">
              <a:avLst>
                <a:gd name="adj1" fmla="val 13418"/>
                <a:gd name="adj2" fmla="val 12500"/>
                <a:gd name="adj3" fmla="val 22304"/>
                <a:gd name="adj4" fmla="val 53315"/>
              </a:avLst>
            </a:prstGeom>
            <a:gradFill rotWithShape="0">
              <a:gsLst>
                <a:gs pos="0">
                  <a:srgbClr val="00b0f0">
                    <a:alpha val="50196"/>
                  </a:srgbClr>
                </a:gs>
                <a:gs pos="100000">
                  <a:srgbClr val="e8eae9"/>
                </a:gs>
              </a:gsLst>
              <a:lin ang="18900000"/>
            </a:gradFill>
            <a:ln w="9360">
              <a:solidFill>
                <a:srgbClr val="ccccff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696960" y="2869920"/>
              <a:ext cx="326232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ities set aside space for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heavy industry, financial institutions, homes, and public spaces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such as libraries and  government building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29"/>
          <p:cNvSpPr/>
          <p:nvPr/>
        </p:nvSpPr>
        <p:spPr>
          <a:xfrm>
            <a:off x="5562720" y="2867040"/>
            <a:ext cx="327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ff"/>
                </a:solidFill>
                <a:latin typeface="Verdana"/>
              </a:rPr>
              <a:t>P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rk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re also important to plan for.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rederick Law Olms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esigned many well-known parks, includ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New York City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 Central Pa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0"/>
          <p:cNvSpPr/>
          <p:nvPr/>
        </p:nvSpPr>
        <p:spPr>
          <a:xfrm>
            <a:off x="380880" y="502920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poor workers lived in crowd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enem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which usually wer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unhealthy and dangerou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cause they had few windows and little sani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5105520" y="236232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neighborhoods became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overcrowded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1066680" y="12952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apid population growth led to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3094749_edit"/>
          <p:cNvPicPr/>
          <p:nvPr/>
        </p:nvPicPr>
        <p:blipFill>
          <a:blip r:embed="rId1"/>
          <a:stretch/>
        </p:blipFill>
        <p:spPr>
          <a:xfrm>
            <a:off x="1219320" y="1981080"/>
            <a:ext cx="358128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 flipH="1" rot="10792800">
            <a:off x="1050480" y="1294920"/>
            <a:ext cx="6934320" cy="2362320"/>
          </a:xfrm>
          <a:prstGeom prst="upArrowCallout">
            <a:avLst>
              <a:gd name="adj1" fmla="val 36505"/>
              <a:gd name="adj2" fmla="val 31039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9"/>
          <p:cNvSpPr/>
          <p:nvPr/>
        </p:nvSpPr>
        <p:spPr>
          <a:xfrm>
            <a:off x="1143000" y="1371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ities had filthy, unpaved streets and sanitation problems, conditions perfect for breeding epidem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0"/>
          <p:cNvSpPr/>
          <p:nvPr/>
        </p:nvSpPr>
        <p:spPr>
          <a:xfrm>
            <a:off x="1066680" y="3898800"/>
            <a:ext cx="723924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solve these problems, governments and city planners tried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egulate housing, sanitation, sewers, and public heal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began to take water from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lean reservoi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o us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ater filtration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7"/>
          <p:cNvSpPr/>
          <p:nvPr/>
        </p:nvSpPr>
        <p:spPr>
          <a:xfrm>
            <a:off x="3809880" y="1647720"/>
            <a:ext cx="4714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ties responded to the threats of fire and crime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 professional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irefight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eam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form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ity poli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orce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new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lectric streetligh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3809880" y="4024440"/>
            <a:ext cx="471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pite the peacekeeping efforts of police, conflicts between different racial groups, classes, and neighborhoods rem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50963077_edit"/>
          <p:cNvPicPr/>
          <p:nvPr/>
        </p:nvPicPr>
        <p:blipFill>
          <a:blip r:embed="rId1"/>
          <a:stretch/>
        </p:blipFill>
        <p:spPr>
          <a:xfrm>
            <a:off x="914400" y="1038240"/>
            <a:ext cx="226836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838080" y="1828800"/>
            <a:ext cx="7467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causes of urban growth in the late 1800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how technology improved city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how city dwellers solved the problems caused by rapid urban grow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14300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38080" y="1828800"/>
            <a:ext cx="746784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rbaniz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ansion of cities accompanied by an increase in the number of people living i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ural-to-urban migra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person who moves from an agricultural area to a 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kyscrape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ery tall building built with modern materials like ste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lisha Ot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eveloper of a safety elevator that made skyscrapers more prac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74678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ss transi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ublic transportation systems that carry large numbers of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ubur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idential area surrounding a 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rederick Law Olmste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landscape engineer who designed Central Park in New York City and parks in other major U.S. c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eneme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ultistory building divided into apartments to house as many families a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216080" y="17082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challenges did city dwellers face, and how did they meet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216080" y="3224160"/>
            <a:ext cx="73134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ty dwellers faced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noise, dirt, and crim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the cities, the hardships of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actory work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overcrowded, dangerous conditions of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en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1219320" y="4572000"/>
            <a:ext cx="7313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vernments and city planners tried to alleviate dangerous conditions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ake cities better, safer places to l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SUS09_EQ_logoSmall.jpg"/>
          <p:cNvPicPr/>
          <p:nvPr/>
        </p:nvPicPr>
        <p:blipFill>
          <a:blip r:embed="rId1"/>
          <a:stretch/>
        </p:blipFill>
        <p:spPr>
          <a:xfrm>
            <a:off x="457200" y="18288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4919760" y="3789360"/>
            <a:ext cx="3124080" cy="2184120"/>
            <a:chOff x="4919760" y="3789360"/>
            <a:chExt cx="3124080" cy="2184120"/>
          </a:xfrm>
        </p:grpSpPr>
        <p:sp>
          <p:nvSpPr>
            <p:cNvPr id="65" name="Rectangle 3"/>
            <p:cNvSpPr/>
            <p:nvPr/>
          </p:nvSpPr>
          <p:spPr>
            <a:xfrm>
              <a:off x="4919760" y="3789360"/>
              <a:ext cx="3124080" cy="2184120"/>
            </a:xfrm>
            <a:prstGeom prst="rect">
              <a:avLst/>
            </a:prstGeom>
            <a:gradFill rotWithShape="0">
              <a:gsLst>
                <a:gs pos="0">
                  <a:srgbClr val="e8eae9"/>
                </a:gs>
                <a:gs pos="100000">
                  <a:srgbClr val="fed273"/>
                </a:gs>
              </a:gsLst>
              <a:lin ang="5400000"/>
            </a:gradFill>
            <a:ln w="1260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"/>
            <p:cNvSpPr/>
            <p:nvPr/>
          </p:nvSpPr>
          <p:spPr>
            <a:xfrm>
              <a:off x="5072040" y="3973320"/>
              <a:ext cx="2928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is period was the beginning of an </a:t>
              </a: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upsurge in American </a:t>
              </a:r>
              <a:r>
                <a:rPr b="1" lang="en-US" sz="2000" spc="-1" strike="noStrike">
                  <a:solidFill>
                    <a:srgbClr val="ff3300"/>
                  </a:solidFill>
                  <a:latin typeface="Verdana"/>
                </a:rPr>
                <a:t>urbaniz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that brought changes to the countr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3"/>
          <p:cNvGrpSpPr/>
          <p:nvPr/>
        </p:nvGrpSpPr>
        <p:grpSpPr>
          <a:xfrm>
            <a:off x="1143000" y="3809880"/>
            <a:ext cx="3962520" cy="2222280"/>
            <a:chOff x="1143000" y="3809880"/>
            <a:chExt cx="3962520" cy="2222280"/>
          </a:xfrm>
        </p:grpSpPr>
        <p:sp>
          <p:nvSpPr>
            <p:cNvPr id="68" name="AutoShape 5"/>
            <p:cNvSpPr/>
            <p:nvPr/>
          </p:nvSpPr>
          <p:spPr>
            <a:xfrm rot="16200000">
              <a:off x="4152960" y="4149720"/>
              <a:ext cx="914400" cy="990720"/>
            </a:xfrm>
            <a:prstGeom prst="downArrow">
              <a:avLst>
                <a:gd name="adj1" fmla="val 49741"/>
                <a:gd name="adj2" fmla="val 34209"/>
              </a:avLst>
            </a:prstGeom>
            <a:gradFill rotWithShape="0">
              <a:gsLst>
                <a:gs pos="0">
                  <a:srgbClr val="83d7e5"/>
                </a:gs>
                <a:gs pos="100000">
                  <a:srgbClr val="e8eae9"/>
                </a:gs>
              </a:gsLst>
              <a:lin ang="10800000"/>
            </a:gradFill>
            <a:ln w="9360">
              <a:solidFill>
                <a:srgbClr val="666699"/>
              </a:solidFill>
              <a:miter/>
            </a:ln>
            <a:effectLst>
              <a:outerShdw dist="45929" dir="2028877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6"/>
            <p:cNvGrpSpPr/>
            <p:nvPr/>
          </p:nvGrpSpPr>
          <p:grpSpPr>
            <a:xfrm>
              <a:off x="1143000" y="3809880"/>
              <a:ext cx="3124440" cy="2222280"/>
              <a:chOff x="1143000" y="3809880"/>
              <a:chExt cx="3124440" cy="2222280"/>
            </a:xfrm>
          </p:grpSpPr>
          <p:sp>
            <p:nvSpPr>
              <p:cNvPr id="70" name="Rectangle 7"/>
              <p:cNvSpPr/>
              <p:nvPr/>
            </p:nvSpPr>
            <p:spPr>
              <a:xfrm>
                <a:off x="1143000" y="3809880"/>
                <a:ext cx="3124440" cy="2222280"/>
              </a:xfrm>
              <a:prstGeom prst="rect">
                <a:avLst/>
              </a:prstGeom>
              <a:gradFill rotWithShape="0">
                <a:gsLst>
                  <a:gs pos="0">
                    <a:srgbClr val="e8eae9"/>
                  </a:gs>
                  <a:gs pos="100000">
                    <a:srgbClr val="83d7e5"/>
                  </a:gs>
                </a:gsLst>
                <a:lin ang="5400000"/>
              </a:gradFill>
              <a:ln w="12600">
                <a:solidFill>
                  <a:srgbClr val="666699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21"/>
              <p:cNvSpPr/>
              <p:nvPr/>
            </p:nvSpPr>
            <p:spPr>
              <a:xfrm>
                <a:off x="1309680" y="3964320"/>
                <a:ext cx="288144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By 1900, 32 percent—</a:t>
                </a:r>
                <a:r>
                  <a:rPr b="0" lang="en-US" sz="2000" spc="-1" strike="noStrike">
                    <a:solidFill>
                      <a:srgbClr val="0033cc"/>
                    </a:solidFill>
                    <a:latin typeface="Verdana"/>
                  </a:rPr>
                  <a:t>15 million Americans—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lived in cities with populations of more than 50,000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AutoShape 9"/>
          <p:cNvSpPr/>
          <p:nvPr/>
        </p:nvSpPr>
        <p:spPr>
          <a:xfrm>
            <a:off x="2090880" y="2570040"/>
            <a:ext cx="914400" cy="1295640"/>
          </a:xfrm>
          <a:prstGeom prst="downArrow">
            <a:avLst>
              <a:gd name="adj1" fmla="val 50000"/>
              <a:gd name="adj2" fmla="val 35423"/>
            </a:avLst>
          </a:prstGeom>
          <a:gradFill rotWithShape="0">
            <a:gsLst>
              <a:gs pos="0">
                <a:srgbClr val="c9c9ff"/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0"/>
          <p:cNvGrpSpPr/>
          <p:nvPr/>
        </p:nvGrpSpPr>
        <p:grpSpPr>
          <a:xfrm>
            <a:off x="1095480" y="1447920"/>
            <a:ext cx="6948360" cy="1315800"/>
            <a:chOff x="1095480" y="1447920"/>
            <a:chExt cx="6948360" cy="1315800"/>
          </a:xfrm>
        </p:grpSpPr>
        <p:sp>
          <p:nvSpPr>
            <p:cNvPr id="74" name="Rectangle 11"/>
            <p:cNvSpPr/>
            <p:nvPr/>
          </p:nvSpPr>
          <p:spPr>
            <a:xfrm>
              <a:off x="1095480" y="1447920"/>
              <a:ext cx="6948360" cy="1315800"/>
            </a:xfrm>
            <a:prstGeom prst="rect">
              <a:avLst/>
            </a:prstGeom>
            <a:gradFill rotWithShape="0">
              <a:gsLst>
                <a:gs pos="0">
                  <a:srgbClr val="e8eae9"/>
                </a:gs>
                <a:gs pos="100000">
                  <a:srgbClr val="c9c9ff"/>
                </a:gs>
              </a:gsLst>
              <a:lin ang="5400000"/>
            </a:gradFill>
            <a:ln w="1260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1"/>
            <p:cNvSpPr/>
            <p:nvPr/>
          </p:nvSpPr>
          <p:spPr>
            <a:xfrm>
              <a:off x="1185840" y="1544400"/>
              <a:ext cx="678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 1860, most Americans lived in rural areas, with only 16 percent living in towns or cities with a population of 8,000 or mor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rcRect l="15278" t="25899" r="20140" b="9591"/>
          <a:stretch/>
        </p:blipFill>
        <p:spPr>
          <a:xfrm>
            <a:off x="609480" y="2514600"/>
            <a:ext cx="4724640" cy="3416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29"/>
          <p:cNvSpPr/>
          <p:nvPr/>
        </p:nvSpPr>
        <p:spPr>
          <a:xfrm>
            <a:off x="609480" y="129528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merica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 major cities were manufacturing and transportation cen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9"/>
          <p:cNvSpPr/>
          <p:nvPr/>
        </p:nvSpPr>
        <p:spPr>
          <a:xfrm>
            <a:off x="5638680" y="241128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ities were clustered in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Northeast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n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acific Coast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along the waterways of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idw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838080" y="3200400"/>
            <a:ext cx="701064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igrants and rural Americans were   attracted by jobs in </a:t>
            </a:r>
            <a:r>
              <a:rPr b="0" lang="en-US" sz="2200" spc="-1" strike="noStrike">
                <a:solidFill>
                  <a:srgbClr val="0033ff"/>
                </a:solidFill>
                <a:latin typeface="Verdana"/>
              </a:rPr>
              <a:t>factories or service indust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ople with money opened sho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ff"/>
                </a:solidFill>
                <a:latin typeface="Verdana"/>
              </a:rPr>
              <a:t>Women</a:t>
            </a:r>
            <a:r>
              <a:rPr b="0" lang="ja-JP" sz="2200" spc="-1" strike="noStrike">
                <a:solidFill>
                  <a:srgbClr val="0033ff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33ff"/>
                </a:solidFill>
                <a:latin typeface="Verdana"/>
              </a:rPr>
              <a:t>s opportunities dramatically expanded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They could work in factories, take in boarders, or be domestic serva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 flipH="1" rot="10792800">
            <a:off x="837360" y="1218960"/>
            <a:ext cx="7086600" cy="1979640"/>
          </a:xfrm>
          <a:prstGeom prst="upArrowCallout">
            <a:avLst>
              <a:gd name="adj1" fmla="val 44519"/>
              <a:gd name="adj2" fmla="val 37852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685800" y="1295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eople moved to c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 seize opportun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801720" y="310032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838080" y="1905120"/>
            <a:ext cx="7467840" cy="4495680"/>
          </a:xfrm>
          <a:prstGeom prst="rect">
            <a:avLst/>
          </a:prstGeom>
          <a:gradFill rotWithShape="0">
            <a:gsLst>
              <a:gs pos="0">
                <a:srgbClr val="c9c9ff"/>
              </a:gs>
              <a:gs pos="100000">
                <a:srgbClr val="e8eae9">
                  <a:alpha val="25098"/>
                </a:srgbClr>
              </a:gs>
            </a:gsLst>
            <a:lin ang="10800000"/>
          </a:gradFill>
          <a:ln w="19080">
            <a:solidFill>
              <a:srgbClr val="666699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822240" y="1143000"/>
            <a:ext cx="74678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ural-to-urban migrant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ved from farms to cities in the 1890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38080" y="1981080"/>
          <a:ext cx="7391520" cy="4175280"/>
        </p:xfrm>
        <a:graphic>
          <a:graphicData uri="http://schemas.openxmlformats.org/drawingml/2006/table">
            <a:tbl>
              <a:tblPr/>
              <a:tblGrid>
                <a:gridCol w="2167200"/>
                <a:gridCol w="5224320"/>
              </a:tblGrid>
              <a:tr h="2263320">
                <a:tc>
                  <a:txBody>
                    <a:bodyPr lIns="90000" rIns="900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mmigrants, Farmers, and Migrants from the Rural W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y were attracted by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economic opportuniti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y moved because it was increasingly difficult to make a living on a far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was hard for farmers to work on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igid schedules in crowded factories</a:t>
                      </a:r>
                      <a:r>
                        <a:rPr b="0" lang="en-US" sz="1800" spc="-1" strike="noStrike">
                          <a:solidFill>
                            <a:srgbClr val="0033ff"/>
                          </a:solidFill>
                          <a:latin typeface="Verdana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911960">
                <a:tc>
                  <a:txBody>
                    <a:bodyPr lIns="90000" rIns="9000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African Americ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majority of African Americans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stayed in southern cities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t African American migrants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paved the way for a much larger migration after World War 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0:50:47Z</dcterms:modified>
  <cp:revision>210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